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778-AF71-4B7C-BF4C-C17E8319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A53-DDE7-4A8E-ABD2-74838358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58E-A21C-457D-AC00-BFA43FAC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FB5-49C1-42BC-8382-850E8527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9EF-E2EB-40B7-8151-66DF4DC4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DBC-F77F-4D79-9FB0-F98D2F1A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943-70CA-4D32-91D6-8A5D70A2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A0D-A652-48AF-B1AE-ED5FDAF0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225-EB36-420D-86CF-2F2DD3AA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8F1-59D0-4C5C-B444-289A53C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112-22C4-40A2-8273-932006F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1C9-EEF9-4699-AAD0-F3F7E4BA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C1C-9C9B-484F-BC90-1C8F2A83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le of Southern Canada’s Landforms at Approximately 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rth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320" y="3657600"/>
            <a:ext cx="9067680" cy="2286000"/>
          </a:xfrm>
          <a:custGeom>
            <a:avLst/>
            <a:gdLst/>
            <a:ahLst/>
            <a:rect l="l" t="t" r="r" b="b"/>
            <a:pathLst>
              <a:path w="5760" h="1368">
                <a:moveTo>
                  <a:pt x="0" y="0"/>
                </a:moveTo>
                <a:cubicBezTo>
                  <a:pt x="612" y="468"/>
                  <a:pt x="1224" y="936"/>
                  <a:pt x="1872" y="1152"/>
                </a:cubicBezTo>
                <a:cubicBezTo>
                  <a:pt x="2520" y="1368"/>
                  <a:pt x="3312" y="1368"/>
                  <a:pt x="3888" y="1296"/>
                </a:cubicBezTo>
                <a:cubicBezTo>
                  <a:pt x="4464" y="1224"/>
                  <a:pt x="5016" y="856"/>
                  <a:pt x="5328" y="720"/>
                </a:cubicBezTo>
                <a:cubicBezTo>
                  <a:pt x="5640" y="584"/>
                  <a:pt x="5700" y="532"/>
                  <a:pt x="5760" y="4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66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519000">
            <a:off x="304560" y="2420640"/>
            <a:ext cx="8381880" cy="260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1522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8:42Z</dcterms:created>
  <dc:creator>Customer</dc:creator>
  <dc:description/>
  <dc:language>en-US</dc:language>
  <cp:lastModifiedBy>Customer</cp:lastModifiedBy>
  <dcterms:modified xsi:type="dcterms:W3CDTF">2011-01-13T20:32:54Z</dcterms:modified>
  <cp:revision>2</cp:revision>
  <dc:subject/>
  <dc:title>Slide 1</dc:title>
</cp:coreProperties>
</file>